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6960" y="1371240"/>
            <a:ext cx="113029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6960" y="4863600"/>
            <a:ext cx="1130292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1383840"/>
            <a:ext cx="514368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7320" y="4876560"/>
            <a:ext cx="514368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3640" y="2768400"/>
            <a:ext cx="5143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0028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445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891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en.wikipedia.org/wiki/Olympic_Torch_(hoax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en.wikipedia.org/wiki/Computer_virus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co-bw.com/DMS_computer_viruses.htm" TargetMode="External"/><Relationship Id="rId8" Type="http://schemas.openxmlformats.org/officeDocument/2006/relationships/image" Target="../media/image3.png"/><Relationship Id="rId9" Type="http://schemas.openxmlformats.org/officeDocument/2006/relationships/hyperlink" Target="http://www.youtube.com/watch?v=lnedOWfPKT0" TargetMode="External"/><Relationship Id="rId10" Type="http://schemas.openxmlformats.org/officeDocument/2006/relationships/image" Target="../media/image3.png"/><Relationship Id="rId11" Type="http://schemas.openxmlformats.org/officeDocument/2006/relationships/hyperlink" Target="http://www.co-bw.com/DMS_computer_viruses.htm" TargetMode="External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86960" y="1371240"/>
            <a:ext cx="113029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omputer Viruses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50680" y="4863600"/>
            <a:ext cx="1130292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By Aidan Leitch and Eli Miloff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4788000" y="6140520"/>
            <a:ext cx="32893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87320" y="-4194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Flame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87320" y="1701720"/>
            <a:ext cx="11430000" cy="7137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lame or otherwise know as Flamer or sKyWIper is a computer Virus discovered in 2012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t attacks Windows Computer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 program is being used for targeted cyber espionage in Middle Eastern Countries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t was found out by the Centre of Iranian Nation Computer Emergency Response Team (CERT)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lame is one of the most sophisticated computer virus ever found, because of its complexity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2124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Flame 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1941480" y="2247840"/>
            <a:ext cx="91202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Flame Cont.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 United States and Israel jointly developed the computer malware to collect intel to prepare for a cyber-sabotage aimed at Iran’s ability to develop nuclear weapons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 Program uses everything from bluetooth to screenshots to vacuum data in the Mid East without leaving a trace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87320" y="-8892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Bibliography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9040" y="736560"/>
            <a:ext cx="11430000" cy="890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381960" indent="-38196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Helvetica Neue Light"/>
              </a:rPr>
              <a:t>Wikipedia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elvetica Neue Light"/>
                <a:hlinkClick r:id="rId3"/>
              </a:rPr>
              <a:t>http://en.wikipedia.org/wiki/Olympic_Torch_(hoax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81960" indent="-38196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Helvetica Neue Light"/>
              </a:rPr>
              <a:t>Wikipedia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Helvetica Neue Light"/>
                <a:hlinkClick r:id="rId5"/>
              </a:rPr>
              <a:t>http://en.wikipedia.org/wiki/Computer_virus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81960" indent="-38196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Helvetica Neue Light"/>
              </a:rPr>
              <a:t>The Electric Web Matrix </a:t>
            </a:r>
            <a:r>
              <a:rPr b="0" i="1" lang="en-US" sz="3600" spc="-1" strike="noStrike" u="sng">
                <a:solidFill>
                  <a:srgbClr val="009999"/>
                </a:solidFill>
                <a:uFillTx/>
                <a:latin typeface="Helvetica Neue Light"/>
                <a:hlinkClick r:id="rId7"/>
              </a:rPr>
              <a:t>http://www.co-bw.com/DMS_computer_viruses.htm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81960" indent="-38196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Helvetica Neue Light"/>
                <a:hlinkClick r:id="rId9"/>
              </a:rPr>
              <a:t>http://www.youtube.com/watch?v=lnedOWfPKT0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81960" indent="-38196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Helvetica Neue Light"/>
              </a:rPr>
              <a:t>Photo  Sean McDonald </a:t>
            </a:r>
            <a:r>
              <a:rPr b="0" i="1" lang="en-US" sz="3600" spc="-1" strike="noStrike" u="sng">
                <a:solidFill>
                  <a:srgbClr val="009999"/>
                </a:solidFill>
                <a:uFillTx/>
                <a:latin typeface="Helvetica Neue Light"/>
                <a:hlinkClick r:id="rId11"/>
              </a:rPr>
              <a:t>http://www.co-bw.com/DMS_computer_viruses.htm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81960" indent="-38196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Helvetica Neue Light"/>
              </a:rPr>
              <a:t>Wikipedia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Helvetica Neue Light"/>
              </a:rPr>
              <a:t>http://en.wikipedia.org/wiki/Mydoom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81960" indent="-38196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Greg Miller, G. (2012, June 19). U.s., israel developed flame computer virus to slow iranian nuclear efforts, officials say. The Washington Post. Retrieved from http://www.washingtonpost.com/world/national-security/us-israel-developed-computer-virus-to-slow-iranian-nuclear-efforts-officials-say/2012/06/19/gJQA6xBPoV_story.html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 end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Background Info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 first virus on the PC was created in Pakistan in 1986 by the Farooq Alvi  brothers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t was spread on a floppy disk entitled Brain which was named after their company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t was meant to only explore the security loop holes in software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y left their names on the disk, because it had nothing harmful on it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What Are viruses?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Viruses are computer programs that can replicate them selfs, much like the human virus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 term “virus is commonly used to describe the word “Malware”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Malware includes, computer viruses, computer worms, trojan horses, most root-kits, spyware, dishonest adware and other malicious unwanted programs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72720" y="611280"/>
            <a:ext cx="10574280" cy="225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How do Virus’s Spread?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87320" y="250164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Virus’s usually get spread by either emails or files downloaded off of a website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Virus’s are usually “installed when the user opens or downloads a file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Now a days virus’s can copy them selfs and email them to other computers and continue the spread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28880" y="181584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2489040" y="228600"/>
            <a:ext cx="8877600" cy="887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atching A Virus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87320" y="201888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Although Macintosh and Unix and Linux can catch virus’s hackers are always trying to find weaknesses and loopholes in the security software in anything Microsoft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Hackers choose to distribute their virus’s on Microsoft because there are more users on Microsoft so they get more bang for their buck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Modern Usage of Virus’s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7320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Hackers mostly use viruses these days for gathering information in companies, or consumers databases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s information could be credit card information and emails accounts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MyDoom Virus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MyDoom was a virus that made its first appearance in 2004 and was intended to affect Microsoft Windows. 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When this virus was discovered it had no name. The discoverer of this virus (Craig Schmugar) named it MyDoom because it had the text “mydom” within it.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After examination, it was found to be a variant of the Mimail worm (spread via email).</a:t>
            </a:r>
            <a:endParaRPr b="0" lang="en-US" sz="24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The “Hoax” Virus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87320" y="247608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elvetica Neue Light"/>
              </a:rPr>
              <a:t>Olympic torch is computer virus hoax sent out by email.</a:t>
            </a:r>
            <a:endParaRPr b="0" lang="en-US" sz="29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962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elvetica Neue Light"/>
              </a:rPr>
              <a:t>The virus referred to as email did not actually exist.</a:t>
            </a:r>
            <a:endParaRPr b="0" lang="en-US" sz="29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962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elvetica Neue Light"/>
              </a:rPr>
              <a:t>These emails were sent to peoples addresses titled “invitation”. </a:t>
            </a:r>
            <a:endParaRPr b="0" lang="en-US" sz="29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962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elvetica Neue Light"/>
              </a:rPr>
              <a:t>It would erase the computers hard disc when opened.</a:t>
            </a:r>
            <a:endParaRPr b="0" lang="en-US" sz="29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962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elvetica Neue Light"/>
              </a:rPr>
              <a:t>This virus has been reported by Microsoft as one of the most destructive viruses ever.</a:t>
            </a:r>
            <a:endParaRPr b="0" lang="en-US" sz="29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962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elvetica Neue Light"/>
              </a:rPr>
              <a:t>The virus was also sent on facebook through the message “Facebook invitation”</a:t>
            </a:r>
            <a:endParaRPr b="0" lang="en-US" sz="29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962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Helvetica Neue Light"/>
              </a:rPr>
              <a:t>Don’t open it if you see it. Just delete it.</a:t>
            </a:r>
            <a:endParaRPr b="0" lang="en-US" sz="29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